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F7B-889C-42B2-B61E-9DF5E682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982-9D86-4B22-8C34-7DB63E51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685-46F3-45A7-BF77-EBC2CE74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F13-62AD-46D1-BFB8-D53301C4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390A-7C1B-48E5-831B-BE194A74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54FB-2240-4AB8-A182-BCB8E00F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1188-0FB7-498B-9D25-A00BF534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F6B7-A4DB-4C76-8142-7121C9DE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1743-16CE-4548-A702-37FC2258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82CD-4A0E-45C4-8844-F41AF227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4D2D-6687-4FF4-84D0-E1435AD4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210-0787-4557-8A6C-D226C275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A02A-DA44-462A-9A2C-30DE6AB2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6BDC-2D6A-4FFE-BD49-9307492F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7DCF-C8B3-4BF3-ADE7-D533BF50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893C-E8D4-4B2F-BD78-AB7C3424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E06B-B065-4659-913C-C13D48A5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3A6-A3D6-4DFB-A036-3F42CF3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039-39A3-411D-AF8F-F4E874AA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E5C-9FCC-432A-BD22-5DD7D8A0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2AC-C1D0-4D03-BCF4-67822069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17E-FF8F-4265-AA5A-075F855B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CAE-A01A-4CE6-8FEE-CA063A3C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5C1-512D-44BC-B568-9A79B260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4EB8-CAD4-4E67-A140-3DE0854640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66A9-4F93-4C68-A93C-9DC7355774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Стесненные услов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4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а пояснительной записки ПОС, учитывающего особенности проведения работ в условиях стесненной городской застрой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привязать к конкретному объекту и оформить в виде фрагмента пояснительной записки информацию по следующей тематике: общие положения по проектированию и строительству объектов в стесненных условиях; особенности производства работ в стесненных условиях; устройство ограждающих конструкций котлованов в стесненных условиях; особенности устройства оснований и фундаментов в стесненных условиях; особенности разработки ППРк для условий стесненной застройки; вопросы демонтажа и сноса зданий и сооружений в стесненных условиях; особенности проведения мониторинга строительства и реконструкции в условиях стесненной застрой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266840" y="1440000"/>
            <a:ext cx="684540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976320" y="1405080"/>
            <a:ext cx="745956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252440" y="1014480"/>
            <a:ext cx="68328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4280" y="426240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пользователь может сформировать и открыть в текстовом редакторе фрагмент пояснительной записки ПОС, учитывающий особенности проведения работ в условиях стесненной городской застройки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152360" y="1065240"/>
            <a:ext cx="6794640" cy="292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36:39Z</dcterms:modified>
  <cp:revision>276</cp:revision>
  <dc:subject/>
  <dc:title>Слайд 1</dc:title>
</cp:coreProperties>
</file>